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move the slide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oefler Tex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opic Songs (Highway to Hell, On the Road Again, I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 Narrow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 leaving on a JetPlane)</a:t>
            </a:r>
            <a:endParaRPr b="0" lang="en-US" sz="14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etermines all affs on the topic, create a plan that fits under this resolution. </a:t>
            </a:r>
            <a:endParaRPr b="0" lang="en-US" sz="14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federal government spends about 100 billion/year on transportation infrastructure improvements through 6 different mechanisms.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1413"/>
                </a:solidFill>
                <a:latin typeface="Franklin Gothic Book"/>
                <a:ea typeface="Lucida Grande"/>
              </a:rPr>
              <a:t>Largest Part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1413"/>
                </a:solidFill>
                <a:latin typeface="Franklin Gothic Book"/>
                <a:ea typeface="Lucida Grande"/>
              </a:rPr>
              <a:t>7000, (1980s had 7)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1413"/>
                </a:solidFill>
                <a:latin typeface="Franklin Gothic Book"/>
                <a:ea typeface="Lucida Grande"/>
              </a:rPr>
              <a:t>No Loss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1413"/>
                </a:solidFill>
                <a:latin typeface="Franklin Gothic Book"/>
                <a:ea typeface="Lucida Grande"/>
              </a:rPr>
              <a:t>Like Loans, but tradable 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1413"/>
                </a:solidFill>
                <a:latin typeface="Franklin Gothic Book"/>
                <a:ea typeface="Lucida Grande"/>
              </a:rPr>
              <a:t>PPP - wave of future, 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tract between a government and a combination of private investors.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rivate contractors gain revenues from a project until their investment is repaid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5a6"/>
                </a:solidFill>
                <a:latin typeface="Arial"/>
                <a:ea typeface="Arial"/>
              </a:rPr>
              <a:t>In 2009, Americans wasted</a:t>
            </a:r>
            <a:endParaRPr b="0" lang="en-US" sz="15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5a6"/>
                </a:solidFill>
                <a:latin typeface="Arial"/>
                <a:ea typeface="Arial"/>
              </a:rPr>
              <a:t>4.8 billion hours and 3.9 billion gallons</a:t>
            </a:r>
            <a:endParaRPr b="0" lang="en-US" sz="15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5a6"/>
                </a:solidFill>
                <a:latin typeface="Arial"/>
                <a:ea typeface="Arial"/>
              </a:rPr>
              <a:t>of fuel sitting in traffic, at a cost of $115 billion.</a:t>
            </a:r>
            <a:endParaRPr b="0" lang="en-US" sz="15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5a6"/>
                </a:solidFill>
                <a:latin typeface="Arial"/>
                <a:ea typeface="Arial"/>
              </a:rPr>
              <a:t>A study by the U.S. Chamber of Commerce</a:t>
            </a:r>
            <a:endParaRPr b="0" lang="en-US" sz="15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5a6"/>
                </a:solidFill>
                <a:latin typeface="Arial"/>
                <a:ea typeface="Arial"/>
              </a:rPr>
              <a:t>recently found that our transportation system</a:t>
            </a:r>
            <a:endParaRPr b="0" lang="en-US" sz="15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5a6"/>
                </a:solidFill>
                <a:latin typeface="Arial"/>
                <a:ea typeface="Arial"/>
              </a:rPr>
              <a:t>is underperforming to a degree that</a:t>
            </a:r>
            <a:endParaRPr b="0" lang="en-US" sz="15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5a6"/>
                </a:solidFill>
                <a:latin typeface="Arial"/>
                <a:ea typeface="Arial"/>
              </a:rPr>
              <a:t>we are effectively leaving</a:t>
            </a:r>
            <a:endParaRPr b="0" lang="en-US" sz="15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5a6"/>
                </a:solidFill>
                <a:latin typeface="Arial"/>
                <a:ea typeface="Arial"/>
              </a:rPr>
              <a:t>$1 trillion of GDP on the table.</a:t>
            </a:r>
            <a:endParaRPr b="0" lang="en-US" sz="15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Highways built to evacuate cities</a:t>
            </a:r>
            <a:endParaRPr b="0" lang="en-US" sz="10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ngest traffic jam in the world recorded in China. Its length is 260 kilometres:</a:t>
            </a:r>
            <a:endParaRPr b="0" lang="en-US" sz="48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iscal D, trade off, complex interactions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lections or Politics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il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ederlaism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urts each other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413"/>
                </a:solidFill>
                <a:latin typeface="Franklin Gothic Book"/>
                <a:ea typeface="Franklin Gothic Book"/>
              </a:rPr>
              <a:t>As individual cases, these deficiencies can be daily annoyances. Together, they form a national crisis. Also structures life as we know it. </a:t>
            </a:r>
            <a:endParaRPr b="0" lang="en-US" sz="24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413"/>
                </a:solidFill>
                <a:latin typeface="Franklin Gothic Book"/>
                <a:ea typeface="Franklin Gothic Book"/>
              </a:rPr>
              <a:t>Talk to your econ teacher</a:t>
            </a:r>
            <a:endParaRPr b="0" lang="en-US" sz="24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413"/>
                </a:solidFill>
                <a:latin typeface="Franklin Gothic Book"/>
                <a:ea typeface="Franklin Gothic Book"/>
              </a:rPr>
              <a:t>States CP slays aff</a:t>
            </a:r>
            <a:endParaRPr b="0" lang="en-US" sz="24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413"/>
                </a:solidFill>
                <a:latin typeface="Franklin Gothic Book"/>
                <a:ea typeface="Franklin Gothic Book"/>
              </a:rPr>
              <a:t>Implicates Inherency, U (didn</a:t>
            </a:r>
            <a:r>
              <a:rPr b="0" lang="ja-JP" sz="2400" spc="-1" strike="noStrike">
                <a:solidFill>
                  <a:srgbClr val="141413"/>
                </a:solidFill>
                <a:latin typeface="Arial"/>
                <a:ea typeface="Franklin Gothic Book"/>
              </a:rPr>
              <a:t>’</a:t>
            </a:r>
            <a:r>
              <a:rPr b="0" lang="en-US" sz="2400" spc="-1" strike="noStrike">
                <a:solidFill>
                  <a:srgbClr val="141413"/>
                </a:solidFill>
                <a:latin typeface="Franklin Gothic Book"/>
                <a:ea typeface="Franklin Gothic Book"/>
              </a:rPr>
              <a:t>t increase overall amount, reauthorized)</a:t>
            </a:r>
            <a:endParaRPr b="0" lang="en-US" sz="24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ransportation (the topic paper had all infrastructure)</a:t>
            </a:r>
            <a:endParaRPr b="0" lang="en-US" sz="24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bralter</a:t>
            </a:r>
            <a:endParaRPr b="0" lang="en-US" sz="12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Only 5 million US citizens. 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Very few established rails/roads/canals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aused minimal commerce and slow travel. Americans lived very local, isolated lives.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1413"/>
                </a:solidFill>
                <a:latin typeface="Franklin Gothic Book"/>
                <a:ea typeface="Lucida Grande"/>
              </a:rPr>
              <a:t>Jefferson - ($324 billion in 2010 dollars) 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1413"/>
                </a:solidFill>
                <a:latin typeface="Franklin Gothic Book"/>
                <a:ea typeface="Lucida Grande"/>
              </a:rPr>
              <a:t>Teddy Roosevelt established bridges, tunnels, and airports that employed millions of Americans at the height of the Great Depression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1413"/>
                </a:solidFill>
                <a:latin typeface="Franklin Gothic Book"/>
                <a:ea typeface="Lucida Grande"/>
              </a:rPr>
              <a:t>Following World War II, Dwight Eisenhower had a vision to build the world</a:t>
            </a:r>
            <a:r>
              <a:rPr b="0" lang="ja-JP" sz="1800" spc="-1" strike="noStrike">
                <a:solidFill>
                  <a:srgbClr val="141413"/>
                </a:solidFill>
                <a:latin typeface="Arial"/>
                <a:ea typeface="Lucida Grande"/>
              </a:rPr>
              <a:t>’</a:t>
            </a:r>
            <a:r>
              <a:rPr b="0" lang="en-US" sz="1800" spc="-1" strike="noStrike">
                <a:solidFill>
                  <a:srgbClr val="141413"/>
                </a:solidFill>
                <a:latin typeface="Franklin Gothic Book"/>
                <a:ea typeface="Lucida Grande"/>
              </a:rPr>
              <a:t>s best highway system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5a6"/>
                </a:solidFill>
                <a:latin typeface="Arial"/>
                <a:ea typeface="Arial"/>
              </a:rPr>
              <a:t>I mean, a D is a Fail</a:t>
            </a:r>
            <a:endParaRPr b="0" lang="en-US" sz="15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5a6"/>
                </a:solidFill>
                <a:latin typeface="Arial"/>
                <a:ea typeface="Arial"/>
              </a:rPr>
              <a:t>Lack of National Vision</a:t>
            </a:r>
            <a:endParaRPr b="0" lang="en-US" sz="15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5a6"/>
                </a:solidFill>
                <a:latin typeface="Arial"/>
                <a:ea typeface="Arial"/>
              </a:rPr>
              <a:t>Limited Size and Scale</a:t>
            </a:r>
            <a:endParaRPr b="0" lang="en-US" sz="15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5a6"/>
                </a:solidFill>
                <a:latin typeface="Arial"/>
                <a:ea typeface="Arial"/>
              </a:rPr>
              <a:t>Insufficient Accountability</a:t>
            </a:r>
            <a:endParaRPr b="0" lang="en-US" sz="15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irport Improvement Program. Funded through a tax on airline tickets.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unds nearly every form of surface transportation like rails, roads, mass transit. Gas tax insufficient to pay for highways. FHWA fund will be entirely bankrupt by 2014.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irect Grants to Local Governments 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esponsible for the private sector expansion of rails</a:t>
            </a:r>
            <a:endParaRPr b="0" lang="en-US" sz="18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652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5000"/>
          </a:bodyPr>
          <a:p>
            <a:pPr marL="58176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1" marL="106884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56384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3" marL="205848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4" marL="255312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5" marL="255312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6" marL="255312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3683160"/>
            <a:ext cx="1046484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72640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2080" y="1625760"/>
            <a:ext cx="5879880" cy="3047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22080" y="5181120"/>
            <a:ext cx="5879880" cy="3048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71000"/>
          </a:bodyPr>
          <a:p>
            <a:pPr marL="243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1" marL="243360" indent="-243360" algn="ctr">
              <a:buClr>
                <a:srgbClr val="44422c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243360" indent="-243360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3" marL="243360" indent="-243360" algn="ctr">
              <a:buClr>
                <a:srgbClr val="44422c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4" marL="243360" indent="-243360" algn="ctr">
              <a:buClr>
                <a:srgbClr val="44422c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5" marL="243360" indent="-243360" algn="ctr">
              <a:buClr>
                <a:srgbClr val="44422c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6" marL="243360" indent="-243360" algn="ctr">
              <a:buClr>
                <a:srgbClr val="44422c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1244520" y="4800600"/>
            <a:ext cx="4635720" cy="12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286000"/>
            <a:ext cx="1046484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181480"/>
            <a:ext cx="10464840" cy="1625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37000"/>
          </a:bodyPr>
          <a:p>
            <a:pPr marL="126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1" marL="126720" indent="-126720" algn="ctr">
              <a:buClr>
                <a:srgbClr val="44422c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26720" indent="-126720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3" marL="126720" indent="-126720" algn="ctr">
              <a:buClr>
                <a:srgbClr val="44422c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4" marL="126720" indent="-126720" algn="ctr">
              <a:buClr>
                <a:srgbClr val="44422c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5" marL="126720" indent="-126720" algn="ctr">
              <a:buClr>
                <a:srgbClr val="44422c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6" marL="126720" indent="-126720" algn="ctr">
              <a:buClr>
                <a:srgbClr val="44422c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40" name="Picture 3" descr=""/>
          <p:cNvPicPr/>
          <p:nvPr/>
        </p:nvPicPr>
        <p:blipFill>
          <a:blip r:embed="rId3"/>
          <a:stretch/>
        </p:blipFill>
        <p:spPr>
          <a:xfrm>
            <a:off x="4191120" y="4800600"/>
            <a:ext cx="4635360" cy="12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94000"/>
          </a:bodyPr>
          <a:p>
            <a:pPr marL="546120" indent="-3236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1" marL="1026360" indent="-32220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2" marL="1515960" indent="-321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3" marL="2005560" indent="-32220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4" marL="2494800" indent="-321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5" marL="2494800" indent="-321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6" marL="2494800" indent="-321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70080" y="2488680"/>
            <a:ext cx="491472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7000"/>
          </a:bodyPr>
          <a:p>
            <a:pPr marL="447120" indent="-2649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1" marL="84096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2" marL="124164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3" marL="164268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4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5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6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17880" y="2488680"/>
            <a:ext cx="421668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69000"/>
          </a:bodyPr>
          <a:p>
            <a:pPr marL="400680" indent="-23760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1" marL="753480" indent="-23652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2" marL="111276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3" marL="1472040" indent="-23652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4" marL="183132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5" marL="183132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6" marL="183132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1269720" y="914040"/>
            <a:ext cx="10464840" cy="7924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2000"/>
          </a:bodyPr>
          <a:p>
            <a:pPr marL="56340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1" marL="103500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51452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3" marL="199332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4" marL="247248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5" marL="247248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6" marL="247248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70080" y="2488680"/>
            <a:ext cx="491472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7000"/>
          </a:bodyPr>
          <a:p>
            <a:pPr marL="447120" indent="-2649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1" marL="84096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2" marL="124164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3" marL="164268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4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5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6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1587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432f00"/>
                </a:solidFill>
                <a:latin typeface="Hoefler Text"/>
              </a:rPr>
              <a:t>Topic Lecture 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6" name="Rectangle 2"/>
          <p:cNvSpPr/>
          <p:nvPr/>
        </p:nvSpPr>
        <p:spPr>
          <a:xfrm>
            <a:off x="774720" y="2158920"/>
            <a:ext cx="114426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Resolved: The United States federal government should substantially increase its </a:t>
            </a:r>
            <a:r>
              <a:rPr b="1" lang="en-US" sz="48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transportation infrastructure investment </a:t>
            </a:r>
            <a:r>
              <a:rPr b="0" lang="en-US" sz="48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in the United States. </a:t>
            </a:r>
            <a:endParaRPr b="0" lang="en-US" sz="48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"/>
          <p:cNvSpPr/>
          <p:nvPr/>
        </p:nvSpPr>
        <p:spPr>
          <a:xfrm>
            <a:off x="-3240" y="412920"/>
            <a:ext cx="126856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Investment Mechanisms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0" y="2286000"/>
            <a:ext cx="56134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DIRECT FUNDS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TO STATES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4000680" y="3314880"/>
            <a:ext cx="5613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EARMARKS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127080" y="4260960"/>
            <a:ext cx="56134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LOAN 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GUARANTEES 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7594560" y="2279520"/>
            <a:ext cx="56134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COMPETITIVE GRANTS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7594560" y="4241880"/>
            <a:ext cx="5613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BONDS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4699080" y="5060880"/>
            <a:ext cx="56134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PUBLIC PRIVATE PARTNERSHIPS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2" name="Rectangle 8"/>
          <p:cNvSpPr/>
          <p:nvPr/>
        </p:nvSpPr>
        <p:spPr>
          <a:xfrm>
            <a:off x="3695760" y="1587600"/>
            <a:ext cx="5613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TAX CREDITS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483" name="Picture 9" descr=""/>
          <p:cNvPicPr/>
          <p:nvPr/>
        </p:nvPicPr>
        <p:blipFill>
          <a:blip r:embed="rId1"/>
          <a:stretch/>
        </p:blipFill>
        <p:spPr>
          <a:xfrm>
            <a:off x="3363840" y="6222960"/>
            <a:ext cx="8286840" cy="53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"/>
          <p:cNvSpPr/>
          <p:nvPr/>
        </p:nvSpPr>
        <p:spPr>
          <a:xfrm>
            <a:off x="-3240" y="272880"/>
            <a:ext cx="12685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Economic Implications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5" name="Rectangle 2"/>
          <p:cNvSpPr/>
          <p:nvPr/>
        </p:nvSpPr>
        <p:spPr>
          <a:xfrm>
            <a:off x="1905120" y="1498680"/>
            <a:ext cx="887724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Government Intervention vs. Free Market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Stimulus vs. Debt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Macro vs. Micro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Keynes vs. Hayek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Trade, Jobs, Productivity, Taxes, Spending, etc.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486" name="Picture 3" descr=""/>
          <p:cNvPicPr/>
          <p:nvPr/>
        </p:nvPicPr>
        <p:blipFill>
          <a:blip r:embed="rId1"/>
          <a:stretch/>
        </p:blipFill>
        <p:spPr>
          <a:xfrm>
            <a:off x="1790640" y="5024520"/>
            <a:ext cx="3213000" cy="47671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2"/>
          <a:stretch/>
        </p:blipFill>
        <p:spPr>
          <a:xfrm>
            <a:off x="6946920" y="5041800"/>
            <a:ext cx="4737240" cy="47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490" name="Transportation Topic Lec" descr="Transportation Topic Lecture - SCFI 12.ppt_media/Search(1)-1.mov"/>
          <p:cNvPicPr/>
          <p:nvPr/>
        </p:nvPicPr>
        <p:blipFill>
          <a:blip r:embed="rId1"/>
          <a:stretch/>
        </p:blipFill>
        <p:spPr>
          <a:xfrm>
            <a:off x="469800" y="1214280"/>
            <a:ext cx="12055680" cy="678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Topicality - Transportation Infrastructure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362320"/>
            <a:ext cx="10464840" cy="5410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0000"/>
          </a:bodyPr>
          <a:p>
            <a:pPr marL="596880" indent="-3384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Core = Roads, Bridges, Mass Transit, Railways, Ports, Inland Waterways, and Airports.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596880" indent="-3384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Might Include = Space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596880" indent="-3384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Probably Doesn</a:t>
            </a:r>
            <a:r>
              <a:rPr b="0" i="1" lang="ja-JP" sz="3600" spc="-1" strike="noStrike">
                <a:solidFill>
                  <a:srgbClr val="44422c"/>
                </a:solidFill>
                <a:latin typeface="Arial"/>
              </a:rPr>
              <a:t>’</a:t>
            </a: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t Include = Vehicles (Cars, Tanks, etc.)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596880" indent="-3384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Excludes = Distinct Sectors (Energy, Water, Comm., etc.)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596880" indent="-3384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More inclusive than exclusive... 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Topicality - Investment </a:t>
            </a:r>
            <a:br>
              <a:rPr sz="6400"/>
            </a:b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In the US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540160"/>
            <a:ext cx="10464840" cy="5410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marL="650160" indent="-36864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Core = Capital Expenditure (Spending)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650160" indent="-36864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Might Include = PPP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650160" indent="-36864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Probably Doesn</a:t>
            </a:r>
            <a:r>
              <a:rPr b="0" i="1" lang="ja-JP" sz="3600" spc="-1" strike="noStrike">
                <a:solidFill>
                  <a:srgbClr val="44422c"/>
                </a:solidFill>
                <a:latin typeface="Arial"/>
              </a:rPr>
              <a:t>’</a:t>
            </a: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t Include = Maintenance 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650160" indent="-36864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Excludes = States &amp; Private Entities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650160" indent="-36864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In = throughout?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650160" indent="-36864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Only the investment has to be in the US?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44422c"/>
                </a:solidFill>
                <a:latin typeface="Hoefler Text"/>
              </a:rPr>
              <a:t>Advantages on the Topic</a:t>
            </a:r>
            <a:br>
              <a:rPr sz="6400"/>
            </a:b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Why vote Aff?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1841040"/>
            <a:ext cx="10464840" cy="5410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Economics - Growth &amp; Competitiveness 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Security - Terrorism, Hegemony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Environment - Global Warming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Social - Equality, Mobility 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"/>
          <p:cNvSpPr/>
          <p:nvPr/>
        </p:nvSpPr>
        <p:spPr>
          <a:xfrm>
            <a:off x="-3240" y="272880"/>
            <a:ext cx="12685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Aviation Affirmatives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698400" y="1486080"/>
            <a:ext cx="1300500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Air Traffic Control / NextGen</a:t>
            </a:r>
            <a:endParaRPr b="0" lang="en-US" sz="44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AIP</a:t>
            </a:r>
            <a:endParaRPr b="0" lang="en-US" sz="44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STIM Grants </a:t>
            </a:r>
            <a:endParaRPr b="0" lang="en-US" sz="44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Military Transportation</a:t>
            </a:r>
            <a:endParaRPr b="0" lang="en-US" sz="44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3301920" y="5102280"/>
            <a:ext cx="6400800" cy="45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"/>
          <p:cNvSpPr/>
          <p:nvPr/>
        </p:nvSpPr>
        <p:spPr>
          <a:xfrm>
            <a:off x="-3240" y="272880"/>
            <a:ext cx="12685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Road Affirmatives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1714680" y="1574640"/>
            <a:ext cx="927072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Highways 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Bridges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Bicycle Infrastructure 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Commercial Trucking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851040" y="5291280"/>
            <a:ext cx="4622760" cy="37512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6718320" y="5460840"/>
            <a:ext cx="5132520" cy="34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"/>
          <p:cNvSpPr/>
          <p:nvPr/>
        </p:nvSpPr>
        <p:spPr>
          <a:xfrm>
            <a:off x="-358920" y="501480"/>
            <a:ext cx="12685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Water Affirmatives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2349360" y="1866960"/>
            <a:ext cx="82933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Inland Waterway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Dams / Levees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Port Expansion or Security 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888840" y="4970520"/>
            <a:ext cx="1121760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"/>
          <p:cNvSpPr/>
          <p:nvPr/>
        </p:nvSpPr>
        <p:spPr>
          <a:xfrm>
            <a:off x="-257040" y="247680"/>
            <a:ext cx="12685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Mass Transit Affirmatives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692440" y="1562040"/>
            <a:ext cx="8292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High Speed Rail </a:t>
            </a:r>
            <a:endParaRPr b="0" lang="en-US" sz="34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Subways / Other forms of PT </a:t>
            </a:r>
            <a:endParaRPr b="0" lang="en-US" sz="34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-95400" y="5435640"/>
            <a:ext cx="13181040" cy="34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" descr=""/>
          <p:cNvPicPr/>
          <p:nvPr/>
        </p:nvPicPr>
        <p:blipFill>
          <a:blip r:embed="rId1"/>
          <a:stretch/>
        </p:blipFill>
        <p:spPr>
          <a:xfrm>
            <a:off x="2184480" y="844560"/>
            <a:ext cx="8229600" cy="80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512" name="Debate over high-spe#DEF38B.mov" descr="Transportation Topic Lecture - SCFI 12.ppt_media/Debate over high-speed rail project in CA.-1.mov"/>
          <p:cNvPicPr/>
          <p:nvPr/>
        </p:nvPicPr>
        <p:blipFill>
          <a:blip r:embed="rId1"/>
          <a:stretch/>
        </p:blipFill>
        <p:spPr>
          <a:xfrm>
            <a:off x="495360" y="1662120"/>
            <a:ext cx="12014280" cy="67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"/>
          <p:cNvSpPr/>
          <p:nvPr/>
        </p:nvSpPr>
        <p:spPr>
          <a:xfrm>
            <a:off x="-3240" y="272880"/>
            <a:ext cx="12685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Freight/Rail Affirmatives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384200" y="1612800"/>
            <a:ext cx="88012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Repair the Tracks  / Add Tracks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Green Trains 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Security Improvements 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Rail Yard Improvements 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3720960" y="5329080"/>
            <a:ext cx="555336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-3240" y="272880"/>
            <a:ext cx="12685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Misc Affirmatives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384200" y="1917720"/>
            <a:ext cx="88012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T - 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National Infrastructure Banks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Gas Tax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1384200" y="4724280"/>
            <a:ext cx="88012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Q T - 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Pipelines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2f00"/>
                </a:solidFill>
                <a:latin typeface="Book Antiqua"/>
                <a:ea typeface="ＭＳ Ｐゴシック"/>
              </a:rPr>
              <a:t>Security / Critical Infrastructure</a:t>
            </a: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02960" y="-36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Neg Arguments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343040" y="1701360"/>
            <a:ext cx="43052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Economics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Politics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Energy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Governmenta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tors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90080"/>
            <a:ext cx="10464840" cy="1397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Quick Thoughts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1320840"/>
            <a:ext cx="10464840" cy="6299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4000"/>
          </a:bodyPr>
          <a:p>
            <a:pPr marL="623520" indent="-353520">
              <a:lnSpc>
                <a:spcPct val="100000"/>
              </a:lnSpc>
              <a:spcBef>
                <a:spcPts val="3300"/>
              </a:spcBef>
              <a:buClr>
                <a:srgbClr val="432f00"/>
              </a:buClr>
              <a:buSzPct val="125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2f00"/>
                </a:solidFill>
                <a:latin typeface="Marker Felt"/>
                <a:ea typeface="Marker Felt"/>
              </a:rPr>
              <a:t>We are affected by transportation on a daily basis... 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623520" indent="-353520">
              <a:lnSpc>
                <a:spcPct val="100000"/>
              </a:lnSpc>
              <a:spcBef>
                <a:spcPts val="3300"/>
              </a:spcBef>
              <a:buClr>
                <a:srgbClr val="432f00"/>
              </a:buClr>
              <a:buSzPct val="125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2f00"/>
                </a:solidFill>
                <a:latin typeface="Marker Felt"/>
                <a:ea typeface="Marker Felt"/>
              </a:rPr>
              <a:t>Good Economic Topic... or Greatest Economic Topic of all time? 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623520" indent="-353520">
              <a:lnSpc>
                <a:spcPct val="100000"/>
              </a:lnSpc>
              <a:spcBef>
                <a:spcPts val="3300"/>
              </a:spcBef>
              <a:buClr>
                <a:srgbClr val="432f00"/>
              </a:buClr>
              <a:buSzPct val="125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2f00"/>
                </a:solidFill>
                <a:latin typeface="Marker Felt"/>
                <a:ea typeface="Marker Felt"/>
              </a:rPr>
              <a:t>Lots of proposals (good advocates), but a small list of advantages.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623520" indent="-353520">
              <a:lnSpc>
                <a:spcPct val="100000"/>
              </a:lnSpc>
              <a:spcBef>
                <a:spcPts val="3300"/>
              </a:spcBef>
              <a:buClr>
                <a:srgbClr val="432f00"/>
              </a:buClr>
              <a:buSzPct val="125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2f00"/>
                </a:solidFill>
                <a:latin typeface="Marker Felt"/>
                <a:ea typeface="Marker Felt"/>
              </a:rPr>
              <a:t>Infrastructure Bill just passed. 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623520" indent="-353520">
              <a:lnSpc>
                <a:spcPct val="100000"/>
              </a:lnSpc>
              <a:spcBef>
                <a:spcPts val="3300"/>
              </a:spcBef>
              <a:buClr>
                <a:srgbClr val="432f00"/>
              </a:buClr>
              <a:buSzPct val="125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2f00"/>
                </a:solidFill>
                <a:latin typeface="Marker Felt"/>
                <a:ea typeface="Marker Felt"/>
              </a:rPr>
              <a:t>Transportation or Infrastructure or Investment?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" descr=""/>
          <p:cNvPicPr/>
          <p:nvPr/>
        </p:nvPicPr>
        <p:blipFill>
          <a:blip r:embed="rId1"/>
          <a:stretch/>
        </p:blipFill>
        <p:spPr>
          <a:xfrm>
            <a:off x="380880" y="1434960"/>
            <a:ext cx="4064040" cy="60962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"/>
          <p:cNvPicPr/>
          <p:nvPr/>
        </p:nvPicPr>
        <p:blipFill>
          <a:blip r:embed="rId2"/>
          <a:stretch/>
        </p:blipFill>
        <p:spPr>
          <a:xfrm>
            <a:off x="5511960" y="1828800"/>
            <a:ext cx="711180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1308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Historical Developmen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533520" y="1143000"/>
            <a:ext cx="10464840" cy="4635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7620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1808 - The Gallatin Plan ($20 million over 100-years) Erie Canal &amp; Transcontinental Railroad. 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37620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1907 - Inland Waterways Commission 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37620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  <a:ea typeface="ＭＳ Ｐゴシック"/>
              </a:rPr>
              <a:t>1956 - Interstate Highway System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1301760" y="5295960"/>
            <a:ext cx="5924520" cy="4038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"/>
          <p:cNvPicPr/>
          <p:nvPr/>
        </p:nvPicPr>
        <p:blipFill>
          <a:blip r:embed="rId2"/>
          <a:stretch/>
        </p:blipFill>
        <p:spPr>
          <a:xfrm>
            <a:off x="8178840" y="3832200"/>
            <a:ext cx="4368600" cy="54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4680" y="-254160"/>
            <a:ext cx="10464840" cy="1981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Modern Infrastructure = </a:t>
            </a:r>
            <a:br>
              <a:rPr sz="6400"/>
            </a:b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Epic Fail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1271520" y="1798560"/>
            <a:ext cx="4165560" cy="83743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2"/>
          <a:stretch/>
        </p:blipFill>
        <p:spPr>
          <a:xfrm>
            <a:off x="6824520" y="1539720"/>
            <a:ext cx="4908600" cy="787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471" name="Transportation Topic Lec" descr="Transportation Topic Lecture - SCFI 12.ppt_media/America(1)-1.mov"/>
          <p:cNvPicPr/>
          <p:nvPr/>
        </p:nvPicPr>
        <p:blipFill>
          <a:blip r:embed="rId1"/>
          <a:stretch/>
        </p:blipFill>
        <p:spPr>
          <a:xfrm>
            <a:off x="812880" y="758880"/>
            <a:ext cx="11366280" cy="852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1612800" y="673200"/>
            <a:ext cx="9048960" cy="789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111254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Federal Agencies &amp; Policy</a:t>
            </a:r>
            <a:br>
              <a:rPr sz="6400"/>
            </a:b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Department of Transportation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170136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FAA - Federal Aviation Administration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FHWA - Federal Highway Administration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FTA - Federal Transit Administration 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FRA - Federal Rail Administration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4422c"/>
                </a:solidFill>
                <a:latin typeface="Hoefler Text"/>
              </a:rPr>
              <a:t>MARAD - Maritime Administration 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he Adams Family</cp:lastModifiedBy>
  <dcterms:modified xsi:type="dcterms:W3CDTF">2012-08-21T03:50:18Z</dcterms:modified>
  <cp:revision>1</cp:revision>
  <dc:subject/>
  <dc:title>Topic Lecture </dc:title>
</cp:coreProperties>
</file>